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F5E-25FC-4782-BCE0-FF7717B7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686-F5C0-497C-A968-D260756F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9FE6-962E-498F-927A-9A4C99A4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C1F59-5E4D-4A6C-80DE-97877083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99939-D25C-47B3-A733-229F19FC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915DC-BF21-43D8-AB5B-4356D73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ABAA4-DCEE-443E-BA19-FAE862D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A8D1E-D790-4B5D-BAC2-8AADBA8A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D32D2-5CA3-4AF1-BCAF-D0C3E18D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F4754-9947-4361-9339-F29E02F2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FD2B9-4312-4941-B7F3-F6714710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3181D-2772-461B-B08D-C6C7971B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367-83CF-4E62-9DB8-477FEB78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B9E57-426A-4FE9-B00C-4B63716F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51503-1805-42DC-805B-5F9FFD4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24AB8-2140-4142-8ADE-65DB7E9B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59CD9-50F4-440C-AFC2-7D2295FA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2743F-9051-462D-9B61-FE9FD3F9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6EC33-0854-44C3-9BBF-D4931FA5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907C0-3739-4DC7-B04A-0297DF1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6B8D0-4C58-4AF5-A426-70834309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26D9B-BBAC-4EE5-9FD9-BB80B24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2ED54-EB84-443B-B25F-5065932B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16E-C04E-4F4C-8302-BB7F9194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3769E-9064-45A1-9051-B178C8A2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D49F-2794-476D-841D-0C00078F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85BF-D4CB-451C-A25A-8FCE1D3A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2D52-3BC5-4AA9-8484-F36BB225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3621-B5EC-4AD6-96C1-435F72CE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927-9F65-4C7A-8C96-8134C38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085A-32CE-48FC-827D-5DA22253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2307-1053-4854-B7F5-E3D32075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8C8-C7CB-4F83-8C46-EFBA3551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AA1E-BBA7-43F4-9D93-1921933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F516-1182-4759-94F7-FA6A72C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CC5C-D9D0-44FE-B999-BCFC8868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D3B-BAB6-4F32-8FDE-AD4B5B5C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682D-3612-49CE-A84B-68AF12E3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3DA73-0CE1-4158-A5C5-BD4C5F55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D95EA-87C1-4924-AAA2-FE62FD1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23F2F-AF6A-4088-AF9A-7170CF3A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0B8D3-C8DB-43F1-88C3-A036ECD4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5F553-74D7-4840-A88F-97BD4C4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A8C-35C3-47CD-B100-610B6B73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2294C-7CC4-47FD-983C-9BA125D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4AAB5-6E06-4FA1-B9C7-F946954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F1960-A553-4FFE-98A5-1E8A4AA0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0FC4B-F592-447B-B3F1-4F5C8BA4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B3E8F-6F2B-414C-B4A9-1EF18C2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39F25-7641-4A15-A82D-A61449D3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52E79-428A-45AA-9C67-154457E4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EC55B-55BA-4580-A98F-F87EDA33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9842-513A-425F-B1D7-F37714A6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5145-7ADE-4268-93E5-0A44699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49B-1F04-4C2D-A5BD-23FEF65A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84CF-723B-47CD-9972-9EFFFB8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3572-75FB-4EA7-A9E2-D77E193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1FB0-63C3-4E4D-8AAF-B4F8EF7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D227-2B32-4C6A-9DDF-903E257F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C3DD6-4DE6-4D0F-BD7B-036F9FFD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3FFA-20CC-477C-90B0-46A00C4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0CC8-8E0F-4228-B308-48A76FBC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C710D-3A0F-43FC-AFA7-BFD4D98A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B7C5-367E-4819-B73F-A268386C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263B6-EEF1-4E3D-845C-E77A7811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023-700C-4408-BCEE-BCFFB274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5E2D-3FE4-4932-97ED-635F914F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9240-C6F8-4CAA-851D-96113CF1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B8ED6-5522-4420-985D-DDAF59B9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5A928-A2BA-4892-B768-C3E46C0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90FDA-80DE-435A-9971-272DA99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8572-9899-4095-9171-0DBBFFE4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42B1-0400-4496-95B0-E003639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8C7B7-A2A7-4A92-B30D-E236D00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332F5-6E5A-45F6-AE92-18D4A46B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0025-B5E4-4D0E-9B7E-BDC3F20B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BDC-DB9A-4DAB-93F1-14E9B79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E06E-FA54-4388-BE24-7FF4EEC4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C12D0-2250-4E37-8452-D2F2DE43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094D6-108E-4656-855C-FBE03BF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1441-D62E-4653-9F48-FD6621EA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30584-07E1-45E2-B66D-2E64C67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25EA-BDF7-4290-9B38-F9399C74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78A74-ED45-4A66-A8C1-73A99B5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D233C-A148-4B59-B395-FB38EEB9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417BD-87C1-404D-AE46-5B05A23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2567C-1C6B-4C91-8105-613C4CC9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153-043C-4D81-88F4-C8B69FB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2D3C-B47F-4A4B-97E8-C5605DD0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4E94-1C32-40C8-AFF1-D791B4F4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5FC00-CC34-42DA-AF7D-D178BDB7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8039-F2D8-4C48-965B-8ED62E7A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8697-7E61-4432-807A-966DA1A0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6F06-A817-416E-8D2E-AA7EF8CC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63E6-CB14-4D94-A0F5-AFC444C5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C5E62-EB32-4F70-902F-174EEB24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4CC3-9BB9-40F7-B970-909ACFD5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D9E10-09A9-4B55-959C-FA8EFDC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D45-A6B3-4AEE-9B40-6C2F306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5511D-5EC3-4C4E-A5F5-D8DABB6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07666-C4DB-4884-B730-A2D3F4B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5362-1AC9-4649-8981-F38B7974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3EB7-F524-4511-A510-016E7122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E60CF-629A-4602-9A8F-F5496D29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33BB5-2089-48BE-82EA-89CD8CCF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1BF11-7BF6-4E16-8EFA-4881F365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07F96-73C5-4E86-9E5D-8DA2A11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6C481-D0CB-410E-B71D-318D9067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2228B-8DBD-4F01-A710-879E62DA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369-23C2-4BE8-BD6B-80A7062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C4C0-84B7-4E81-802E-5DF1DAF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14A2-9A15-4881-994E-0DA31BA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EB48-CE9F-40EF-A43C-F124F8C2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D8D2A-5FF7-4DC4-B3C9-03389B7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2580-0698-4370-AD31-F299886E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EAE9-66B2-4FDD-B03A-D47173A0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2658A-CEF8-4F42-9788-819C9FC3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F804-F870-46B5-94E7-3B471B9C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8B2E5-2A4D-46ED-B20B-37E8AEAC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92462-3B85-4BED-B3B2-41ACCA5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8FA8-B53E-46BD-A3B0-1181A996C0B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6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1656-49F7-46A3-A74B-7E09ADBF71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599-C5CF-4189-A5C7-102A053026F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92D0-73DC-46FB-B812-E7066B7138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DB82-A87A-4A22-A476-17E814A502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1417-5493-4238-8DA6-EAECE0030C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523A-DCA1-4DD4-9FF1-E99F80966C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8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B1D-1820-42B9-84E0-3CDF707E81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7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7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7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50DB-AB58-456A-93AB-D7E2FD757B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72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9B9F-A064-43C1-A252-2F3E61645C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ssian-crafts.com/russian-folk-tales.html" TargetMode="External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 in Rus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Guide to celebrations , religion, and folk stor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liday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ew Years is the biggest holiday in Russi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hristmas is celebrated on January 7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 Black"/>
              </a:rPr>
              <a:t>th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 Two weeks after American Christma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ir Valentines Day is very similar to American Valentines Day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re is also a Holiday named International Women’s Day. It’s a time when men in Russia try to please women. Sometimes women spend the whole day without men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ig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in Russia has a very diverse relig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ussian Orthodox:71.8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uslim:5.5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atholic:1.8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otestant:0.7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Buddhist:0.6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Jewish:0.3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Other:0.9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ne:18.9%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k S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to this site for a very long list of folk stories in Russi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russian-crafts.com/russian-folk-tales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nthony F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by Anthony F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imated by Anthony F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ped by Carmen and Lia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43:34Z</dcterms:created>
  <dc:creator> </dc:creator>
  <dc:description/>
  <dc:language>en-US</dc:language>
  <cp:lastModifiedBy> </cp:lastModifiedBy>
  <dcterms:modified xsi:type="dcterms:W3CDTF">2010-12-20T14:10:05Z</dcterms:modified>
  <cp:revision>5</cp:revision>
  <dc:subject/>
  <dc:title> Culture in Russia</dc:title>
</cp:coreProperties>
</file>